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5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FBAC-AAC0-4F80-8441-C0DDBDC8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984-2F43-4A08-9BCD-B7BA1C00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46895F-C33A-4F91-B076-40CCB235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7B40F1-B0A6-482C-9FD2-A5592B0A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ACB71F-E156-4B93-A4EB-B9A08CC1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5649A3-6A49-460D-9250-1D77AAB5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503F7E-EB9C-4DFF-ACA1-01109CAB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E5A3C0-E80C-4AF1-9270-19EED203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3EAF5B-A0FF-48F0-A068-D7BAB30E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3DBD03-586D-4D8B-9427-4BEEBC25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2EDBA1-6A64-4946-996F-5CA26E84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D5FB7-E411-419A-BA8F-FD6D77D2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1C0A-4830-4750-BB0B-3A194C54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23DCE-E1A8-4BC8-A02A-52BB7C77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D32C6-1EFF-41A9-8DB1-367939BB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B4124-448B-49A2-B906-758D33F4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1F7E8-4AE8-4926-830A-7DA6A4B1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5D5C8-3EC8-48D1-AC9C-2A9EB9B3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55FBF-5C6F-4F31-BC4E-88F8D033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6D1EE-D727-4A8C-89EA-E2B844B2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EE28C-F4D2-4F38-BF89-8A995030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D5C1F-1509-4B85-9006-C5D7505C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1909A-5B99-4226-BFED-E34A56C2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A101-3982-460F-A8A9-B2719E19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6750F-B7BD-45A9-8097-AB98C023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1D02F-D750-47DE-BD06-8AB88FE0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40340-B7AB-4111-BBCA-F8C96115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1D300-ED6A-4757-BC93-E880DAF1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D49D7-8B5F-4C30-B78D-08B03226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8231C-D352-4B86-9605-20457F98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13BED-48A3-4BCB-AD64-E71E9BFB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A4AF2-FF2F-4C09-9944-68CCCE32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418EF-1DF8-4319-A080-A9F2C3D6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5343E-E6CA-466C-87CD-F02B6863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CC89A-91C3-403D-8EB8-FE1D5822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0EEFD-3884-4172-AED3-16BE98C7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6DF90-4BFD-496B-8EBA-5E8F0C9F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5C8AB-613E-484B-8893-2BF9DF0B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7E0E4-0D8D-4168-AF32-5786361A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B8504-EE13-483A-A895-3F39455B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2C8D4-B0F2-4C6C-A620-31E70B20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ACBD5-B1B1-4572-97E0-98D46505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F0D26-F2B3-4A65-9849-3B794D6E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432D5-164A-4D2D-942C-332D0CBB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FEBB4-4068-4C13-8570-F66826AE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B181F-B0C3-47B4-901D-73599E9B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DAAA5-0F90-42BB-8764-BEDCC336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CFCED-37C1-4714-9253-2AEDF4C9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F2DE5-1A8D-47D2-ABCB-8F7B9E55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E6096-67B9-432F-90DF-222DE204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51D4A-978B-42D2-91E0-E7396C68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F80E4-8F12-4048-8E71-320E325B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F2D8E-0D80-4D20-8B7A-FCEB2A08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BF7A2-C098-4B6F-8C3F-B632052B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8A356-C5D7-4B1C-8154-9A86722B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E426B-2C52-432A-9030-6B27F269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CCAA-BA0F-434C-9B03-F2BCE93A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E65AA-C4EB-4DD6-8107-01EE1491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D7F8E-FC6D-4550-8A2C-08AEAE50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13A82-517B-4C31-A44B-AE40E382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ED41C-1370-4337-A30A-DE2E07A6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39097-9CE4-44E2-B351-E490D094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39EA2-B7B4-49B3-8561-5083CF95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17957-49CE-4BD1-9283-9F3C3342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A5AC1-449D-4DF0-94FE-32F2E83C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CF7CA-F3A4-418E-88B5-3B948FEA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EE174-1125-421B-928D-9ECA2269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27E2-5430-4115-991D-B0792886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14571-1BEB-47A6-BC47-861CCACF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4C0C1-3C63-4AF0-87EC-BD866B92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83E98-C4BC-445A-8F10-8BFE113D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29AD9-515B-4E9B-922F-F000DEA7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05092-463A-4BA0-B171-22BDC3B9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EDBF9-4269-4CD0-9140-F33A59A0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A5EE3-C09D-49B1-9904-8B807E0B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7BC773-5DC4-49B0-83BA-3F007A98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0224FC-2FE0-473D-8FB3-F8BAADB2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2415B3-F139-4D0F-AD08-1C9E6F62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9A0D-842A-4DE1-B694-EED624A9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74B573-5DCA-43F5-AD16-18D4A5E7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1B32B7-D0E8-4139-9AF8-7ABD155B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C8272B-130E-4FCA-B2F5-EBBAF548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A93D4B-B8D4-4B1C-8EE8-DE932AFE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3DF724-17E9-47B2-8B28-1E832968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CF147C-1D4D-435D-84A7-1A9AE7FE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71E805-2D88-46D6-B75E-F25FCB95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41AE9F-46D5-449C-AF7F-5380D8BC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C9AE13-7850-4A4E-A602-EF34243E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83D64-E9E2-4D75-AF87-CD4C8C53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6ED8-8784-43F8-9697-A83945D1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22F92-593C-4E72-8997-DB43A84F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7559A-A4A2-4B5E-9CFC-1C5FC4C3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BE21D-0A77-4E82-8BA1-ED93B4E2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07852-117F-4447-B5D9-890A77A3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0A686-8CC1-401E-B340-6324EE27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AC790-7FBB-43BC-9DC2-876808E3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515A0-1E82-4539-B844-716ECB5A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1D71E-A322-48DF-AE5F-DBE0482F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5C8FD-DE40-4F7A-BCDE-3C6C5886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56730-6867-43FC-86EB-BA4A4E1F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FAED-FE0B-4F9F-955D-3AB214D0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7562E-9746-49D7-902D-34AA8028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D0653-DA2F-46FF-AD4F-361E35BA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98307-4E49-4DFA-9180-3B4CF7E1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9B4E4-5366-4490-BB8E-D009AC10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1984F-AD30-4D81-90C2-7B4DE240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10623-1046-4C94-A481-F19FE799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23BF1-74E0-41DD-B3C9-1A7F20C6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35091-649C-4CDD-8DD2-EE4A2717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CA801-2061-4EF4-B222-19DE085A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338C0-3F63-41E8-AD24-DB5E17A0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F0B2-68E5-4581-945B-0108137E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4CB02-AE81-470B-A482-248FFD78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68640-991E-4EE7-AE5B-33211E2D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87125-1374-48CB-8213-EFC8673B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71919-B27B-489D-BC35-19FF7B29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0C4D9-3712-47D3-979F-473C13A4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10332-5CD7-45F6-B9B1-89FEF775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C00EA-3AC9-4B00-9DC1-255E79FB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73835-6F9B-4789-ACD7-0B9900CD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8D525-6BAA-4913-BEC0-C602DA51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BC44E-9C84-4628-B671-19A902B9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D631-029C-4120-97AA-29BFC7E5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6F9A6-0060-4036-9A19-721C6A41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E306D-0C08-4080-9839-88073C20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34FD0-62F0-417E-99C3-BF8E7E98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EB55B-676D-42E2-87A3-23959D7F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BBBB4-99E3-4C15-8296-61F213C7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70B83F-58AF-4DC0-88C9-D53573E5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4CD508-A425-4452-A183-AEA3CC5C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909DDD-9633-4BD7-8CDD-F42D2855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EC71DE-ED26-4B96-9BA9-E5C4F699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7B9208-6FB0-4D97-A8BD-C0AC1BA3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0E42-5379-4321-8B1D-FA89EC74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929961-EE5A-47F3-BD0C-4B227227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D0277C-3685-425C-98C3-ADFF1211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4A1DDA-7335-4CF4-9826-24B8529F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CB269B-ED89-482D-AAA5-3D3040E9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48F1D6-C8D6-46FA-8CE8-66183E76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8EC31F-1503-4526-B76D-0B6A88CE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3CDA94-C6D2-4D90-9659-FC6D0261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85F32E-A490-4186-B86C-C95E7A69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71843A-6489-42C4-8BE8-C4355909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723702-89EF-4AE9-B883-A06D2E19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365A-229A-44F4-A71B-768BC8B322B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95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D8AC-C4E8-4164-B9FF-4AA50F67DD9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99D3-DC42-4499-87BF-1E1552AE585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3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41CF-EBD9-4F4A-98C5-E603DA67F25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4923-35F7-4CD1-8A2F-7081FC73B05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BF81-1429-4ACE-9CB9-79823F0FBA9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74C7-6F97-40AF-865A-96B85F1BD9F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E1C1-32ED-490A-815E-EA071B8E556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1CF2-AB93-44B9-B0FD-189727C386D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79CF-A4F4-47ED-9E83-13F1B8ABD51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18BA-7B77-4D1D-B4D7-E3DDB98EE54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3A19-9E72-4B4A-B4C7-824DE949A51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hyperlink" Target="http://www.firstworldwar.com/posters/canada.htm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file:///seven_tricks.html" TargetMode="External"/><Relationship Id="rId4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Rectangle 4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9637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" descr="pp_can_06"/>
          <p:cNvPicPr/>
          <p:nvPr/>
        </p:nvPicPr>
        <p:blipFill>
          <a:blip r:embed="rId3"/>
          <a:stretch/>
        </p:blipFill>
        <p:spPr>
          <a:xfrm>
            <a:off x="2700360" y="1341360"/>
            <a:ext cx="3398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10" descr="pp_uk_06"/>
          <p:cNvPicPr/>
          <p:nvPr/>
        </p:nvPicPr>
        <p:blipFill>
          <a:blip r:embed="rId2"/>
          <a:stretch/>
        </p:blipFill>
        <p:spPr>
          <a:xfrm>
            <a:off x="2556000" y="189000"/>
            <a:ext cx="4464000" cy="6630840"/>
          </a:xfrm>
          <a:prstGeom prst="rect">
            <a:avLst/>
          </a:prstGeom>
          <a:ln w="0">
            <a:noFill/>
          </a:ln>
        </p:spPr>
      </p:pic>
      <p:sp>
        <p:nvSpPr>
          <p:cNvPr id="550" name="TextBox 8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Box 7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2" name="Picture 8" descr="pp_can_04"/>
          <p:cNvPicPr/>
          <p:nvPr/>
        </p:nvPicPr>
        <p:blipFill>
          <a:blip r:embed="rId2"/>
          <a:stretch/>
        </p:blipFill>
        <p:spPr>
          <a:xfrm>
            <a:off x="2556000" y="333360"/>
            <a:ext cx="403200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9" descr="pp_uk_07"/>
          <p:cNvPicPr/>
          <p:nvPr/>
        </p:nvPicPr>
        <p:blipFill>
          <a:blip r:embed="rId2"/>
          <a:stretch/>
        </p:blipFill>
        <p:spPr>
          <a:xfrm>
            <a:off x="2340000" y="252360"/>
            <a:ext cx="4176720" cy="6505560"/>
          </a:xfrm>
          <a:prstGeom prst="rect">
            <a:avLst/>
          </a:prstGeom>
          <a:ln w="0">
            <a:noFill/>
          </a:ln>
        </p:spPr>
      </p:pic>
      <p:sp>
        <p:nvSpPr>
          <p:cNvPr id="554" name="TextBox 6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Box 7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6" name="Picture 13" descr="http://www.google.ca/url?source=imgres&amp;ct=img&amp;q=http://s3.hubimg.com/u/1116470_f520.jpg&amp;sa=X&amp;ei=Qb1nTfTEIcq4tgeyxYXoAw&amp;ved=0CAQQ8wc&amp;usg=AFQjCNEG6Jrnz35ujutLMMvfQM8bzsjvtw"/>
          <p:cNvPicPr/>
          <p:nvPr/>
        </p:nvPicPr>
        <p:blipFill>
          <a:blip r:embed="rId2"/>
          <a:stretch/>
        </p:blipFill>
        <p:spPr>
          <a:xfrm>
            <a:off x="2700360" y="316080"/>
            <a:ext cx="4248000" cy="65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5" descr="pp_uk_08"/>
          <p:cNvPicPr/>
          <p:nvPr/>
        </p:nvPicPr>
        <p:blipFill>
          <a:blip r:embed="rId2"/>
          <a:stretch/>
        </p:blipFill>
        <p:spPr>
          <a:xfrm>
            <a:off x="2916360" y="333360"/>
            <a:ext cx="4103640" cy="6291360"/>
          </a:xfrm>
          <a:prstGeom prst="rect">
            <a:avLst/>
          </a:prstGeom>
          <a:ln w="0">
            <a:noFill/>
          </a:ln>
        </p:spPr>
      </p:pic>
      <p:sp>
        <p:nvSpPr>
          <p:cNvPr id="558" name="TextBox 6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12" descr="pp_uk_09"/>
          <p:cNvPicPr/>
          <p:nvPr/>
        </p:nvPicPr>
        <p:blipFill>
          <a:blip r:embed="rId2"/>
          <a:stretch/>
        </p:blipFill>
        <p:spPr>
          <a:xfrm>
            <a:off x="2916360" y="260280"/>
            <a:ext cx="4248000" cy="6330960"/>
          </a:xfrm>
          <a:prstGeom prst="rect">
            <a:avLst/>
          </a:prstGeom>
          <a:ln w="0">
            <a:noFill/>
          </a:ln>
        </p:spPr>
      </p:pic>
      <p:sp>
        <p:nvSpPr>
          <p:cNvPr id="560" name="TextBox 5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http://www.google.ca/url?source=imgres&amp;ct=img&amp;q=http://www.underconsideration.com/speakup/archives/SU_war-2.jpg&amp;sa=X&amp;ei=EL5nTYnKAYWUtwfp8vjnAw&amp;ved=0CAQQ8wc4LQ&amp;usg=AFQjCNHdqX1i7_gVeU7KFKlsTkt7JcypsQ"/>
          <p:cNvPicPr/>
          <p:nvPr/>
        </p:nvPicPr>
        <p:blipFill>
          <a:blip r:embed="rId2"/>
          <a:stretch/>
        </p:blipFill>
        <p:spPr>
          <a:xfrm>
            <a:off x="1835280" y="1413000"/>
            <a:ext cx="6756120" cy="5025960"/>
          </a:xfrm>
          <a:prstGeom prst="rect">
            <a:avLst/>
          </a:prstGeom>
          <a:ln w="0">
            <a:noFill/>
          </a:ln>
        </p:spPr>
      </p:pic>
      <p:sp>
        <p:nvSpPr>
          <p:cNvPr id="562" name="TextBox 2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4" descr="http://www.google.ca/url?source=imgres&amp;ct=img&amp;q=http://www.warandgender.com/5_fig010.jpg&amp;sa=X&amp;ei=0c9nTYGGMcrAtgey7ZzoAw&amp;ved=0CAQQ8wc4Ww&amp;usg=AFQjCNFqzvs4DXBZdshOaoztOPLHd8mvEQ"/>
          <p:cNvPicPr/>
          <p:nvPr/>
        </p:nvPicPr>
        <p:blipFill>
          <a:blip r:embed="rId2"/>
          <a:stretch/>
        </p:blipFill>
        <p:spPr>
          <a:xfrm>
            <a:off x="2556000" y="333360"/>
            <a:ext cx="4181400" cy="6203880"/>
          </a:xfrm>
          <a:prstGeom prst="rect">
            <a:avLst/>
          </a:prstGeom>
          <a:ln w="0">
            <a:noFill/>
          </a:ln>
        </p:spPr>
      </p:pic>
      <p:sp>
        <p:nvSpPr>
          <p:cNvPr id="564" name="TextBox 2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http://www.google.ca/url?source=imgres&amp;ct=img&amp;q=http://www.pinetreeweb.com/bp-ww1-poster.jpg&amp;sa=X&amp;ei=FNBnTaKFJIWXtwfPzqjoAw&amp;ved=0CAQQ8wc4Ww&amp;usg=AFQjCNE3K16jozMNvu4NStfP2ZqZN7lg5g"/>
          <p:cNvPicPr/>
          <p:nvPr/>
        </p:nvPicPr>
        <p:blipFill>
          <a:blip r:embed="rId2"/>
          <a:stretch/>
        </p:blipFill>
        <p:spPr>
          <a:xfrm>
            <a:off x="2771640" y="223920"/>
            <a:ext cx="4297320" cy="6634080"/>
          </a:xfrm>
          <a:prstGeom prst="rect">
            <a:avLst/>
          </a:prstGeom>
          <a:ln w="0">
            <a:noFill/>
          </a:ln>
        </p:spPr>
      </p:pic>
      <p:sp>
        <p:nvSpPr>
          <p:cNvPr id="566" name="TextBox 2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http://www.google.ca/url?source=imgres&amp;ct=img&amp;q=http://www.infobarrel.com/media/image/1385.jpg&amp;sa=X&amp;ei=Is9nTbeKKIS5tgevr6DoAw&amp;ved=0CAQQ8wc&amp;usg=AFQjCNHOqOEV_AP6pJPQBLhdvUTbFCibTA"/>
          <p:cNvPicPr/>
          <p:nvPr/>
        </p:nvPicPr>
        <p:blipFill>
          <a:blip r:embed="rId2"/>
          <a:stretch/>
        </p:blipFill>
        <p:spPr>
          <a:xfrm>
            <a:off x="1908000" y="0"/>
            <a:ext cx="4535640" cy="6719760"/>
          </a:xfrm>
          <a:prstGeom prst="rect">
            <a:avLst/>
          </a:prstGeom>
          <a:ln w="0">
            <a:noFill/>
          </a:ln>
        </p:spPr>
      </p:pic>
      <p:sp>
        <p:nvSpPr>
          <p:cNvPr id="568" name="TextBox 2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Rectangle 4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ckwell"/>
              </a:rPr>
              <a:t>Propaganda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is a specific type of message presentation aimed at serving an agenda. At its root, the denotation of propaganda is 'to propagate (actively spread) a philosophy or point of view'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e most common use of the term (historically) is in political contexts; in particular to refer to certain efforts sponsored by governments or political groups. (Wikipedia)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30" name="Picture 9" descr="pp_can_09"/>
          <p:cNvPicPr/>
          <p:nvPr/>
        </p:nvPicPr>
        <p:blipFill>
          <a:blip r:embed="rId3"/>
          <a:stretch/>
        </p:blipFill>
        <p:spPr>
          <a:xfrm>
            <a:off x="5289480" y="1905120"/>
            <a:ext cx="2755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Title 1" descr=""/>
          <p:cNvPicPr/>
          <p:nvPr/>
        </p:nvPicPr>
        <p:blipFill>
          <a:blip r:embed="rId2"/>
          <a:stretch/>
        </p:blipFill>
        <p:spPr>
          <a:xfrm>
            <a:off x="457200" y="378000"/>
            <a:ext cx="8242200" cy="224928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250560" y="3068640"/>
            <a:ext cx="8497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orld War I Posters- Canada </a:t>
            </a:r>
            <a:br>
              <a:rPr sz="3200"/>
            </a:br>
            <a:r>
              <a:rPr b="0" lang="en-US" sz="3200" spc="-1" strike="noStrike" u="sng">
                <a:solidFill>
                  <a:srgbClr val="db5353"/>
                </a:solidFill>
                <a:uFillTx/>
                <a:latin typeface="Rockwell"/>
                <a:hlinkClick r:id="rId3"/>
              </a:rPr>
              <a:t>http://www.firstworldwar.com/posters/canada.ht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Rectangle 4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1649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Each of the nations which participated in World War One from 1914-18 used propaganda poster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hey used posters to: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justify their involvement to their own populace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As a means of recruiting men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A way to raise money and resources to sustain the military campaign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o urge conservation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33" name="Picture 10" descr="pp_uk_33"/>
          <p:cNvPicPr/>
          <p:nvPr/>
        </p:nvPicPr>
        <p:blipFill>
          <a:blip r:embed="rId3"/>
          <a:stretch/>
        </p:blipFill>
        <p:spPr>
          <a:xfrm>
            <a:off x="5148360" y="1484280"/>
            <a:ext cx="33462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Rectangle 2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164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elevision had not yet been invented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Not everyone owned or had access to a radio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Posters were the most effective means of getting a message acros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36" name="Picture 16" descr="http://www.google.ca/url?source=imgres&amp;ct=img&amp;q=http://rlv.zcache.com/ww1_collectors_card_1914_canada_propaganda_postcard-p239228030672924246trdg_400.jpg&amp;sa=X&amp;ei=ub1nTb7ECIHHtgej1pnoAw&amp;ved=0CAQQ8wc&amp;usg=AFQjCNHqVicEdsZbF8RHg_MN0xkrsCMTRg"/>
          <p:cNvPicPr/>
          <p:nvPr/>
        </p:nvPicPr>
        <p:blipFill>
          <a:blip r:embed="rId3"/>
          <a:stretch/>
        </p:blipFill>
        <p:spPr>
          <a:xfrm>
            <a:off x="4788000" y="17733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Rectangle 4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211640" y="1905120"/>
            <a:ext cx="468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2960" indent="-282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Quite often propaganda is connected with negative emotion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2960" indent="-282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uring the Great War the governments needed money for the war effort so they focused their efforts on posters aimed at raising money from citizens for the war effor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AutoShape 11"/>
          <p:cNvSpPr/>
          <p:nvPr/>
        </p:nvSpPr>
        <p:spPr>
          <a:xfrm>
            <a:off x="77760" y="-1257480"/>
            <a:ext cx="17431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0" name="Picture 13" descr="http://www.google.ca/url?source=imgres&amp;ct=img&amp;q=http://www.ww1westernfront.gov.au/notre-dame/images/awm-artv00468.jpg&amp;sa=X&amp;ei=HL1nTfi4GJG3twfg-ojoAw&amp;ved=0CAQQ8wc&amp;usg=AFQjCNH1W85C4FmIQqqyLWn6M4D7BeumJA"/>
          <p:cNvPicPr/>
          <p:nvPr/>
        </p:nvPicPr>
        <p:blipFill>
          <a:blip r:embed="rId3"/>
          <a:stretch/>
        </p:blipFill>
        <p:spPr>
          <a:xfrm>
            <a:off x="971640" y="1773360"/>
            <a:ext cx="27367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Rectangle 2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40328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db5353"/>
                </a:solidFill>
                <a:uFillTx/>
                <a:latin typeface="Rockwell"/>
                <a:hlinkClick r:id="rId3"/>
              </a:rPr>
              <a:t>Seven Tricks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Rockwell"/>
              </a:rPr>
              <a:t>(link)</a:t>
            </a:r>
            <a:br>
              <a:rPr sz="3400"/>
            </a:br>
            <a:br>
              <a:rPr sz="3400"/>
            </a:br>
            <a:r>
              <a:rPr b="0" lang="en-US" sz="3400" spc="-1" strike="noStrike" u="sng">
                <a:solidFill>
                  <a:srgbClr val="ffffff"/>
                </a:solidFill>
                <a:uFillTx/>
                <a:latin typeface="Rockwel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Rockwell"/>
              </a:rPr>
              <a:t>Activity:  In small groups, examine the following posters and identify the ‘tricks’ used in the posters.  Each group will present their conclusions to the class.</a:t>
            </a:r>
            <a:endParaRPr b="0" lang="en-US" sz="3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9" descr="pp_uk_02"/>
          <p:cNvPicPr/>
          <p:nvPr/>
        </p:nvPicPr>
        <p:blipFill>
          <a:blip r:embed="rId2"/>
          <a:stretch/>
        </p:blipFill>
        <p:spPr>
          <a:xfrm>
            <a:off x="2195640" y="189000"/>
            <a:ext cx="4608360" cy="6541920"/>
          </a:xfrm>
          <a:prstGeom prst="rect">
            <a:avLst/>
          </a:prstGeom>
          <a:ln w="0">
            <a:noFill/>
          </a:ln>
        </p:spPr>
      </p:pic>
      <p:sp>
        <p:nvSpPr>
          <p:cNvPr id="544" name="TextBox 8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3" descr="pp_uk_01"/>
          <p:cNvPicPr/>
          <p:nvPr/>
        </p:nvPicPr>
        <p:blipFill>
          <a:blip r:embed="rId2"/>
          <a:stretch/>
        </p:blipFill>
        <p:spPr>
          <a:xfrm>
            <a:off x="2050920" y="115920"/>
            <a:ext cx="4465800" cy="6584760"/>
          </a:xfrm>
          <a:prstGeom prst="rect">
            <a:avLst/>
          </a:prstGeom>
          <a:ln w="0">
            <a:noFill/>
          </a:ln>
        </p:spPr>
      </p:pic>
      <p:sp>
        <p:nvSpPr>
          <p:cNvPr id="546" name="TextBox 5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9" descr="pp_can_09"/>
          <p:cNvPicPr/>
          <p:nvPr/>
        </p:nvPicPr>
        <p:blipFill>
          <a:blip r:embed="rId2"/>
          <a:stretch/>
        </p:blipFill>
        <p:spPr>
          <a:xfrm>
            <a:off x="2340000" y="291960"/>
            <a:ext cx="4176720" cy="6232680"/>
          </a:xfrm>
          <a:prstGeom prst="rect">
            <a:avLst/>
          </a:prstGeom>
          <a:ln w="0">
            <a:noFill/>
          </a:ln>
        </p:spPr>
      </p:pic>
      <p:sp>
        <p:nvSpPr>
          <p:cNvPr id="548" name="TextBox 5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22:08:58Z</dcterms:created>
  <dc:creator>Rob Cotey</dc:creator>
  <dc:description/>
  <dc:language>en-US</dc:language>
  <cp:lastModifiedBy>Craig Rush</cp:lastModifiedBy>
  <dcterms:modified xsi:type="dcterms:W3CDTF">2011-11-14T00:07:32Z</dcterms:modified>
  <cp:revision>16</cp:revision>
  <dc:subject/>
  <dc:title>Propaganda in World War One</dc:title>
</cp:coreProperties>
</file>